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32.jpeg" ContentType="image/jpeg"/>
  <Override PartName="/ppt/media/image11.png" ContentType="image/png"/>
  <Override PartName="/ppt/media/image38.jpeg" ContentType="image/jpeg"/>
  <Override PartName="/ppt/media/image28.png" ContentType="image/png"/>
  <Override PartName="/ppt/media/image35.png" ContentType="image/png"/>
  <Override PartName="/ppt/media/image5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4.jpeg" ContentType="image/jpeg"/>
  <Override PartName="/ppt/media/image40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D22-56BE-48C5-9482-8C12FCDC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1DE-0793-405F-A12B-DF285322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DBBF4-DF84-414D-B12F-73467DC5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3EE6C-4174-429F-A379-DA1C3122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BE2CE-531B-4832-8A69-66FA46D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65718-4E7E-4E4C-B619-F34BD963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0F40E-BA9C-40AB-8D59-E24261A6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790BC-7B86-480A-A189-7E576472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57B58-06CD-4DE5-AE8A-2AD384B5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0DF13-6E23-411E-B15D-ED7FBC7F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543D0-4CFC-4B37-AC5C-7CD5FA01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32A-15C4-4C19-936E-E01C312C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D3F-D2B3-43EF-90E1-35E6C3D7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5786-7956-4730-8FA7-11FE720A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9323-4F8E-4F1A-A188-29D196FA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B7F6-4C61-46AD-9501-FB2DD804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3682-622F-41F6-87D3-7A20EC48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F75B-5534-41B2-BB16-4892BAE6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B869-E7DC-4066-8BA8-FC1BD076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3F82-9300-4308-9FE4-720DE880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EAB-6C18-42B3-ADD4-952B5C87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8515-EDFF-48E3-84D9-71322D8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8DA4-0BC3-428C-A28A-1FC1698F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A869-7108-473F-AAEF-EFABAB07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CE15-D15C-4E2D-8C41-DCAB6FBB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8F46-A28C-4550-96E4-3A833DA4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9C99-50F2-45CC-892F-97C94BF0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58A37-25AA-4740-BCF1-237E0C08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329E-D77E-4C98-9051-0F589419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2ABF9-860C-468D-AE7E-E00A949F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B213-FED6-400D-B229-B1C4F640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9AB-6BF3-42D8-825E-71A74495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AAE5E-029E-4FCC-B7E8-0631D918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369AD-B6D0-4970-8F4C-C66CA070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EA80-2D64-48F7-A633-1869A8F0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BCFCA-28F4-4367-A243-81DB9C47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E9F77-1F69-4A5F-B901-2619E4DE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3021-BD2F-4CA6-AEB0-53E444DF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D490-88B2-42A1-A30D-D44C5DBB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DFD0F-49FC-487E-9270-73B91B8E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EF476-ECC1-4C14-B339-5C902622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56904-D15C-4FF9-B86E-1D758FF7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E3A-E953-4F74-8BCA-3A5CFC9D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94612-EE4C-41C0-9952-46F9CC1D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113B8-00D6-4CC9-9ADF-22BDFEA8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48AE8-98AC-4D88-9108-C2265C44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875C-DC4A-4AA2-9F39-C8A813A2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7341-32D4-4E8A-984C-7AD07294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0EC7-892E-4C2B-96B2-35691D3C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B25DC-FB7A-4E42-AFE7-1496DC05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2E996-7641-43DD-957C-44EE0710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6404-9847-45C6-86BC-A699BF7E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FB602-0A83-47F6-AA13-75BD58BB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3C0-2568-4507-BAB0-B23421B8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5C56D-8B8C-479E-B148-2EC626BA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83783-D066-42E6-AA05-D8574AC5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346C2-283A-4A71-B1DB-68F23909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B200-ED75-4B20-99B9-B06B5582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6C9C1-F40F-48B2-98EF-53190544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6A750-5163-48DC-AC31-5DFE618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42EA9-26A8-43C4-836D-E8AA98FA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98CD3-F081-44F3-BDE6-7DCAD72A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63CC6-6532-40F7-8C20-C6CBF4A2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6D87F-E609-49C4-95F2-B3844A6F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C9A-ABE3-443F-872B-FA82DD52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AC7E3-E0E4-4429-8E07-7D33E12A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4FFEA-7F31-4173-A295-8B77EC86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0A88E-A4C5-4A45-B428-5208B0C0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81C74-4DD7-47B0-88A6-EEBC6540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E5AF1-2745-410E-8CAE-343D2546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9C064-41B0-4C5F-923C-B57BD712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65A5F-AE46-4422-AE80-6CC5CBF9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F6CC3-89EC-45F2-98A8-E5536DA9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062F5-8AEB-471F-A6EE-E864987C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7C782-657B-46BB-B700-FC756741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B6C-778A-457A-9705-E6ACE645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1F1E9-126F-402F-B574-E7DF57BD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A93D0-4861-4109-999A-63AA6D72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4BF8B-1B8A-4B24-B871-676580D1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CD059-896C-4DC3-8CE4-6B829FCA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7F28E-B96B-44AA-804F-74A5FE16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3CECA-4BE8-496F-9237-54BD7AD1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1E8B3-7EC6-4EE8-8C2E-71831459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BA755-E74B-4AA2-8AF0-CDD5C47A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A45EB-A9D4-4D5E-82E6-7329553B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877E5-6798-4C78-AC7E-5EEF0FE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6E0-5F44-4A07-B729-D2CD3C23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A319B-6796-423D-96A0-BF1089ED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9A2B7-8F6D-48FE-B0AC-2465CB0E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F2622-CC4B-4351-AFCA-9B490719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9921A-750D-484B-AF77-2B93E57E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61AE9-4DB8-4872-9902-FF52DDA4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CBDA9-B459-4AC0-8CC6-B537D7CE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631EC-D861-4082-9E92-319F6C6D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1223C-583C-48B5-8119-9EACE00C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44FB0-7E06-45A8-96CA-B59DA4C0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BA3DF-7BC1-43D3-8471-90430571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83B-B727-4B21-A15A-710096FB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92E49-A14B-4C95-BC6D-FC56B603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8B216-0396-481A-BD20-072F9346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2FEA3-325D-476B-B5C2-40E80AE0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D376C-6D49-4226-A586-BDF344D4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3BD83-07EF-4CD8-BEBA-4DED9D1A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26896-C8C1-49C0-9CF6-FB89714C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514E5-2095-4C3F-B25F-179FF2DA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B61DF-247D-4645-8F85-4B7735C6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7D479-1FEF-457D-830B-0E84C60C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3F934-0B7F-4AF4-A019-3692F152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5523-F8E0-4E83-AB85-3C25BC9392B1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ctor reto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7FCC-5736-44A8-96D1-9EE0082BE9C6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7D5D-2FBC-4AEF-A26E-AFC78B5F4214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ctor reto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310A-5DE5-4CE8-9887-6A3AC6E799B4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ctor reto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75D8-051A-4CB4-A5D2-15B22057A76D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C180-0811-470D-B0EA-106170526E7D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ctor reto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65B9-76B1-4657-BC4C-CCAF106E6AAE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E509-DFA5-4981-9595-63A13C115CE9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BBBD-75C5-4783-83A1-C9CA6B632B5B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12760" y="749160"/>
            <a:ext cx="8254800" cy="3346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43329"/>
                </a:solidFill>
                <a:latin typeface="Franklin Gothic Book"/>
              </a:rPr>
              <a:t>Profª Moisés Rodrigo G dos Sant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43329"/>
                </a:solidFill>
                <a:latin typeface="Franklin Gothic Book"/>
              </a:rPr>
              <a:t>www.quimicopolar.wikispaces.co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5" descr="2002-71-132-52-i004"/>
          <p:cNvPicPr/>
          <p:nvPr/>
        </p:nvPicPr>
        <p:blipFill>
          <a:blip r:embed="rId2"/>
          <a:stretch/>
        </p:blipFill>
        <p:spPr>
          <a:xfrm>
            <a:off x="468360" y="1143000"/>
            <a:ext cx="8675640" cy="4309920"/>
          </a:xfrm>
          <a:prstGeom prst="rect">
            <a:avLst/>
          </a:prstGeom>
          <a:ln w="0">
            <a:noFill/>
          </a:ln>
        </p:spPr>
      </p:pic>
      <p:sp>
        <p:nvSpPr>
          <p:cNvPr id="426" name="Retângulo 6"/>
          <p:cNvSpPr/>
          <p:nvPr/>
        </p:nvSpPr>
        <p:spPr>
          <a:xfrm>
            <a:off x="428760" y="5769000"/>
            <a:ext cx="8715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Portanto, quanto maior o número de partículas do soluto em solução, maior o abaixamento da pressão máxima de vapor e menor a pressão de vapor do solv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Botão de ação: Filme 4"/>
          <p:cNvSpPr/>
          <p:nvPr/>
        </p:nvSpPr>
        <p:spPr>
          <a:xfrm>
            <a:off x="3564000" y="2781360"/>
            <a:ext cx="1571400" cy="785880"/>
          </a:xfrm>
          <a:custGeom>
            <a:avLst/>
            <a:gdLst>
              <a:gd name="textAreaLeft" fmla="*/ 50760 w 1571400"/>
              <a:gd name="textAreaRight" fmla="*/ 1520640 w 157140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4" y="7301"/>
                </a:moveTo>
                <a:lnTo>
                  <a:pt x="15498" y="7301"/>
                </a:lnTo>
                <a:lnTo>
                  <a:pt x="15880" y="7667"/>
                </a:lnTo>
                <a:lnTo>
                  <a:pt x="25089" y="7667"/>
                </a:lnTo>
                <a:lnTo>
                  <a:pt x="25646" y="8224"/>
                </a:lnTo>
                <a:lnTo>
                  <a:pt x="25646" y="8772"/>
                </a:lnTo>
                <a:lnTo>
                  <a:pt x="27491" y="8772"/>
                </a:lnTo>
                <a:lnTo>
                  <a:pt x="27857" y="8224"/>
                </a:lnTo>
                <a:lnTo>
                  <a:pt x="28597" y="8224"/>
                </a:lnTo>
                <a:lnTo>
                  <a:pt x="28597" y="13376"/>
                </a:lnTo>
                <a:lnTo>
                  <a:pt x="27857" y="13376"/>
                </a:lnTo>
                <a:lnTo>
                  <a:pt x="27491" y="12828"/>
                </a:lnTo>
                <a:lnTo>
                  <a:pt x="25646" y="12828"/>
                </a:lnTo>
                <a:lnTo>
                  <a:pt x="25646" y="14107"/>
                </a:lnTo>
                <a:lnTo>
                  <a:pt x="16063" y="14107"/>
                </a:lnTo>
                <a:lnTo>
                  <a:pt x="16063" y="9877"/>
                </a:lnTo>
                <a:lnTo>
                  <a:pt x="15880" y="9877"/>
                </a:lnTo>
                <a:lnTo>
                  <a:pt x="15498" y="10243"/>
                </a:lnTo>
                <a:lnTo>
                  <a:pt x="14584" y="10243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42f"/>
                </a:solidFill>
                <a:latin typeface="Franklin Gothic Book"/>
              </a:rPr>
              <a:t>Temperatura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: A pressão de vapor aumenta como aumento da temperatur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42f"/>
                </a:solidFill>
                <a:latin typeface="Franklin Gothic Book"/>
              </a:rPr>
              <a:t>Natureza do Soluto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: Cada líquido apresenta uma pressão de vapor característica numa mesma temperatur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É o estudo da elevação da temperatura de ebulição de um líquido, por meio da adição de um soluto não voláti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diminuição da pressão máxima de vapor do solvente, devido à adição de um soluto, leva inevitavelmente ao </a:t>
            </a:r>
            <a:r>
              <a:rPr b="1" lang="pt-BR" sz="3200" spc="-1" strike="noStrike">
                <a:solidFill>
                  <a:srgbClr val="4e3b30"/>
                </a:solidFill>
                <a:latin typeface="Franklin Gothic Book"/>
              </a:rPr>
              <a:t>aumento da temperatura de ebuliçã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3714480"/>
            <a:ext cx="8686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70c0"/>
                </a:solidFill>
                <a:latin typeface="Franklin Gothic Book"/>
              </a:rPr>
              <a:t>Quanto maior a concentração do soluto, maior a elevação da temperatura de ebulição do solvente e maior a temperatura de ebulição do mesm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Picture 2" descr="http://www.profpc.com.br/2002-71-132-53-i001.jpg"/>
          <p:cNvPicPr/>
          <p:nvPr/>
        </p:nvPicPr>
        <p:blipFill>
          <a:blip r:embed="rId1"/>
          <a:stretch/>
        </p:blipFill>
        <p:spPr>
          <a:xfrm>
            <a:off x="1000080" y="285840"/>
            <a:ext cx="65214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ítulo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8" name="Botão de ação: Filme 4"/>
          <p:cNvSpPr/>
          <p:nvPr/>
        </p:nvSpPr>
        <p:spPr>
          <a:xfrm>
            <a:off x="2843280" y="1484280"/>
            <a:ext cx="3529080" cy="2808360"/>
          </a:xfrm>
          <a:custGeom>
            <a:avLst/>
            <a:gdLst>
              <a:gd name="textAreaLeft" fmla="*/ 181800 w 3529080"/>
              <a:gd name="textAreaRight" fmla="*/ 3347280 w 3529080"/>
              <a:gd name="textAreaTop" fmla="*/ 181800 h 2808360"/>
              <a:gd name="textAreaBottom" fmla="*/ 2626560 h 2808360"/>
            </a:gdLst>
            <a:ahLst/>
            <a:rect l="textAreaLeft" t="textAreaTop" r="textAreaRight" b="textAreaBottom"/>
            <a:pathLst>
              <a:path w="27143" h="21600">
                <a:moveTo>
                  <a:pt x="0" y="0"/>
                </a:moveTo>
                <a:lnTo>
                  <a:pt x="27143" y="0"/>
                </a:lnTo>
                <a:lnTo>
                  <a:pt x="27143" y="21600"/>
                </a:lnTo>
                <a:lnTo>
                  <a:pt x="0" y="21600"/>
                </a:lnTo>
                <a:close/>
              </a:path>
              <a:path fill="lightenLess" w="27143" h="21600">
                <a:moveTo>
                  <a:pt x="0" y="0"/>
                </a:moveTo>
                <a:lnTo>
                  <a:pt x="27143" y="0"/>
                </a:lnTo>
                <a:lnTo>
                  <a:pt x="25743" y="1400"/>
                </a:lnTo>
                <a:lnTo>
                  <a:pt x="1400" y="1400"/>
                </a:lnTo>
                <a:close/>
              </a:path>
              <a:path fill="darken" w="27143" h="21600">
                <a:moveTo>
                  <a:pt x="27143" y="0"/>
                </a:moveTo>
                <a:lnTo>
                  <a:pt x="27143" y="21600"/>
                </a:lnTo>
                <a:lnTo>
                  <a:pt x="25743" y="20200"/>
                </a:lnTo>
                <a:lnTo>
                  <a:pt x="25743" y="1400"/>
                </a:lnTo>
                <a:close/>
              </a:path>
              <a:path fill="darkenLess" w="27143" h="21600">
                <a:moveTo>
                  <a:pt x="27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43" y="20200"/>
                </a:lnTo>
                <a:close/>
              </a:path>
              <a:path fill="lighten" w="27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43" h="21600">
                <a:moveTo>
                  <a:pt x="6565" y="7301"/>
                </a:moveTo>
                <a:lnTo>
                  <a:pt x="7479" y="7301"/>
                </a:lnTo>
                <a:lnTo>
                  <a:pt x="7862" y="7667"/>
                </a:lnTo>
                <a:lnTo>
                  <a:pt x="17070" y="7667"/>
                </a:lnTo>
                <a:lnTo>
                  <a:pt x="17627" y="8224"/>
                </a:lnTo>
                <a:lnTo>
                  <a:pt x="17627" y="8772"/>
                </a:lnTo>
                <a:lnTo>
                  <a:pt x="19472" y="8772"/>
                </a:lnTo>
                <a:lnTo>
                  <a:pt x="19838" y="8224"/>
                </a:lnTo>
                <a:lnTo>
                  <a:pt x="20578" y="8224"/>
                </a:lnTo>
                <a:lnTo>
                  <a:pt x="20578" y="13376"/>
                </a:lnTo>
                <a:lnTo>
                  <a:pt x="19838" y="13376"/>
                </a:lnTo>
                <a:lnTo>
                  <a:pt x="19472" y="12828"/>
                </a:lnTo>
                <a:lnTo>
                  <a:pt x="17627" y="12828"/>
                </a:lnTo>
                <a:lnTo>
                  <a:pt x="17627" y="14107"/>
                </a:lnTo>
                <a:lnTo>
                  <a:pt x="8044" y="14107"/>
                </a:lnTo>
                <a:lnTo>
                  <a:pt x="8044" y="9877"/>
                </a:lnTo>
                <a:lnTo>
                  <a:pt x="7862" y="9877"/>
                </a:lnTo>
                <a:lnTo>
                  <a:pt x="7479" y="10243"/>
                </a:lnTo>
                <a:lnTo>
                  <a:pt x="6565" y="10243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É o estudo do abaixamento da temperatura de congelação de um líquido, por meio da adição de um solut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diminuição da pressão de vapor do solvente, devido à adição de um soluto, leva à diminuição da temperatura de congelament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É uma temperatura e uma pressão nas quais as fases sólida, líquida e gasosa coexiste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e3b30"/>
                </a:solidFill>
                <a:latin typeface="Franklin Gothic Book"/>
              </a:rPr>
              <a:t>http://www.mspc.eng.br/tecdiv/im01/agua_diagr_est1.gif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4" name="Picture 5" descr="agua_diagr_est1"/>
          <p:cNvPicPr/>
          <p:nvPr/>
        </p:nvPicPr>
        <p:blipFill>
          <a:blip r:embed="rId2"/>
          <a:stretch/>
        </p:blipFill>
        <p:spPr>
          <a:xfrm>
            <a:off x="1258920" y="2421000"/>
            <a:ext cx="61927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5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A Figura ilustra o ponto triplo. Gelo (iceberg) coexistindo com o líquido no qual flutua, e com a fase gasosa (ar e vapor de água)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8" name="Picture 4" descr="Quimica_TD_fig03"/>
          <p:cNvPicPr/>
          <p:nvPr/>
        </p:nvPicPr>
        <p:blipFill>
          <a:blip r:embed="rId2"/>
          <a:stretch/>
        </p:blipFill>
        <p:spPr>
          <a:xfrm>
            <a:off x="971640" y="1628640"/>
            <a:ext cx="33224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Fenômeno da disseminação espontânea entre um líquido em outro e vice-vers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difusão de um líquido para outro através de membranas semipermeáveis recebe o nome de OSMO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028"/>
          <p:cNvSpPr/>
          <p:nvPr/>
        </p:nvSpPr>
        <p:spPr>
          <a:xfrm>
            <a:off x="539640" y="476280"/>
            <a:ext cx="813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Um dos assuntos que são freqüentemente abordados nos exames vestibulares do país são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pt-BR" sz="2000" spc="-1" strike="noStrike">
                <a:solidFill>
                  <a:srgbClr val="ff0000"/>
                </a:solidFill>
                <a:latin typeface="Tahoma"/>
              </a:rPr>
              <a:t>PROPRIEDADES COLIGATIV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A sua aplicação está em um dos principais laboratórios de química que você conhece :         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1029"/>
          <p:cNvSpPr/>
          <p:nvPr/>
        </p:nvSpPr>
        <p:spPr>
          <a:xfrm>
            <a:off x="468360" y="3141720"/>
            <a:ext cx="820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ROPRIEDADES COLIGATIV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          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ão propriedades que estão intimamente relacionadas com o número de partículas de um soluto dispersas em uma solução.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           Quando adiciona-se sal de cozinha, (NaCl) á água fervente nota-se que a fervura imediatamente pár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or quê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tângulo 3"/>
          <p:cNvSpPr/>
          <p:nvPr/>
        </p:nvSpPr>
        <p:spPr>
          <a:xfrm>
            <a:off x="4184640" y="23572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Tahoma"/>
              </a:rPr>
              <a:t>A COZINHA</a:t>
            </a: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Retângulo 3"/>
          <p:cNvSpPr/>
          <p:nvPr/>
        </p:nvSpPr>
        <p:spPr>
          <a:xfrm>
            <a:off x="428760" y="4786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Quanto maior a concentração do soluto, maior o abaixamento da temperatura de congelamento do solvente e menor a temperatura de congelamento do mes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1"/>
          <p:cNvSpPr/>
          <p:nvPr/>
        </p:nvSpPr>
        <p:spPr>
          <a:xfrm>
            <a:off x="714240" y="30052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feito Crioscopico do sal no Ponto de Solidificação da água: à direita água pura com Ponto de Solidificação de 0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 e a esquerda água e sal com Ponto de Solidificação de -18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5" name="Picture 2" descr="http://www.profpc.com.br/Foto_acquasale.jpg"/>
          <p:cNvPicPr/>
          <p:nvPr/>
        </p:nvPicPr>
        <p:blipFill>
          <a:blip r:embed="rId1"/>
          <a:stretch/>
        </p:blipFill>
        <p:spPr>
          <a:xfrm>
            <a:off x="1643040" y="428760"/>
            <a:ext cx="52293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714240" y="2357280"/>
            <a:ext cx="8001000" cy="28083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4"/>
          <p:cNvSpPr/>
          <p:nvPr/>
        </p:nvSpPr>
        <p:spPr>
          <a:xfrm>
            <a:off x="571680" y="21420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OSMO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 </a:t>
            </a: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fenômeno que permite a passagem do solvente do meio mais </a:t>
            </a: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diluído</a:t>
            </a: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 para o meio mais </a:t>
            </a: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concentrado</a:t>
            </a: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tângulo 4"/>
          <p:cNvSpPr/>
          <p:nvPr/>
        </p:nvSpPr>
        <p:spPr>
          <a:xfrm>
            <a:off x="285840" y="52149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Osmose é a passagem de um solvente para o interior de uma solução feita desse mesmo solvente, através de uma membrana semipermeável (MSP). A osmose também é uma propriedade coligativa da solução, pois depende do número de partículas dissolvi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848360" cy="433836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3"/>
          <p:cNvSpPr/>
          <p:nvPr/>
        </p:nvSpPr>
        <p:spPr>
          <a:xfrm>
            <a:off x="609480" y="3808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Verdana"/>
              </a:rPr>
              <a:t>Análise microscópic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PRESSÃO DE VAPOR DA ÁGUA PURA  (P</a:t>
            </a:r>
            <a:r>
              <a:rPr b="0" lang="pt-BR" sz="3200" spc="-1" strike="noStrike" baseline="-25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) É MAIOR QUE A DA ÁGUA NA SOLUÇÃO (P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ÁGUA SE DESLOCA DE UMA REGIÃO MENOS CONCETRADA PARA UMA REGIÃO MAIS CONCENTRAD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8955000" cy="5429160"/>
          </a:xfrm>
          <a:prstGeom prst="rect">
            <a:avLst/>
          </a:prstGeom>
          <a:ln w="0">
            <a:noFill/>
          </a:ln>
        </p:spPr>
      </p:pic>
      <p:sp>
        <p:nvSpPr>
          <p:cNvPr id="465" name="Retângulo 6"/>
          <p:cNvSpPr/>
          <p:nvPr/>
        </p:nvSpPr>
        <p:spPr>
          <a:xfrm>
            <a:off x="3571920" y="3429000"/>
            <a:ext cx="5357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Tahoma"/>
              </a:rPr>
              <a:t>N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A membrana semipermeável (MSP), que pode ser feita de bexiga de animal ou celofane, é seletiva, ou seja, deixa passar o solvente, mas não deixa passar o sol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Observa-se que o nível do solvente diminui após um certo tempo, enquanto o nível da solução aum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"/>
          <p:cNvPicPr/>
          <p:nvPr/>
        </p:nvPicPr>
        <p:blipFill>
          <a:blip r:embed="rId2"/>
          <a:stretch/>
        </p:blipFill>
        <p:spPr>
          <a:xfrm>
            <a:off x="0" y="1125360"/>
            <a:ext cx="5832360" cy="31863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7544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mínima pressão externa que deve ser aplicada à solução quando separada do seu solvente puro para impedir a osmo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Pressão osmótica depende da concentração da soluçã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Ocorre quando se aplica uma pressão no lado da solução mais salina ou concentrada, revertendo-se a tendência natura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Neste caso, a água da solução salina passa para o lado da água pura, ficando retidos os íons dos sais nela dissolvido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A pressão a ser aplicada equivale a uma pressão maior do que a pressão osmótica característica da solução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214200" y="1119240"/>
            <a:ext cx="89298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"/>
          <p:cNvPicPr/>
          <p:nvPr/>
        </p:nvPicPr>
        <p:blipFill>
          <a:blip r:embed="rId2"/>
          <a:stretch/>
        </p:blipFill>
        <p:spPr>
          <a:xfrm>
            <a:off x="0" y="3854520"/>
            <a:ext cx="4680000" cy="25574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2190960" cy="15714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4"/>
          <a:stretch/>
        </p:blipFill>
        <p:spPr>
          <a:xfrm>
            <a:off x="5508720" y="31417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Botão de ação: Filme 2"/>
          <p:cNvSpPr/>
          <p:nvPr/>
        </p:nvSpPr>
        <p:spPr>
          <a:xfrm>
            <a:off x="3203640" y="2637000"/>
            <a:ext cx="2881080" cy="1368360"/>
          </a:xfrm>
          <a:custGeom>
            <a:avLst/>
            <a:gdLst>
              <a:gd name="textAreaLeft" fmla="*/ 88560 w 2881080"/>
              <a:gd name="textAreaRight" fmla="*/ 2792520 w 28810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72" h="21600">
                <a:moveTo>
                  <a:pt x="0" y="0"/>
                </a:moveTo>
                <a:lnTo>
                  <a:pt x="45472" y="0"/>
                </a:lnTo>
                <a:lnTo>
                  <a:pt x="45472" y="21600"/>
                </a:lnTo>
                <a:lnTo>
                  <a:pt x="0" y="21600"/>
                </a:lnTo>
                <a:close/>
              </a:path>
              <a:path fill="lightenLess" w="45472" h="21600">
                <a:moveTo>
                  <a:pt x="0" y="0"/>
                </a:moveTo>
                <a:lnTo>
                  <a:pt x="45472" y="0"/>
                </a:lnTo>
                <a:lnTo>
                  <a:pt x="44072" y="1400"/>
                </a:lnTo>
                <a:lnTo>
                  <a:pt x="1400" y="1400"/>
                </a:lnTo>
                <a:close/>
              </a:path>
              <a:path fill="darken" w="45472" h="21600">
                <a:moveTo>
                  <a:pt x="45472" y="0"/>
                </a:moveTo>
                <a:lnTo>
                  <a:pt x="45472" y="21600"/>
                </a:lnTo>
                <a:lnTo>
                  <a:pt x="44072" y="20200"/>
                </a:lnTo>
                <a:lnTo>
                  <a:pt x="44072" y="1400"/>
                </a:lnTo>
                <a:close/>
              </a:path>
              <a:path fill="darkenLess" w="45472" h="21600">
                <a:moveTo>
                  <a:pt x="45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72" y="20200"/>
                </a:lnTo>
                <a:close/>
              </a:path>
              <a:path fill="lighten" w="45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72" h="21600">
                <a:moveTo>
                  <a:pt x="15730" y="7301"/>
                </a:moveTo>
                <a:lnTo>
                  <a:pt x="16644" y="7301"/>
                </a:lnTo>
                <a:lnTo>
                  <a:pt x="17027" y="7667"/>
                </a:lnTo>
                <a:lnTo>
                  <a:pt x="26235" y="7667"/>
                </a:lnTo>
                <a:lnTo>
                  <a:pt x="26792" y="8224"/>
                </a:lnTo>
                <a:lnTo>
                  <a:pt x="26792" y="8772"/>
                </a:lnTo>
                <a:lnTo>
                  <a:pt x="28637" y="8772"/>
                </a:lnTo>
                <a:lnTo>
                  <a:pt x="29003" y="8224"/>
                </a:lnTo>
                <a:lnTo>
                  <a:pt x="29743" y="8224"/>
                </a:lnTo>
                <a:lnTo>
                  <a:pt x="29743" y="13376"/>
                </a:lnTo>
                <a:lnTo>
                  <a:pt x="29003" y="13376"/>
                </a:lnTo>
                <a:lnTo>
                  <a:pt x="28637" y="12828"/>
                </a:lnTo>
                <a:lnTo>
                  <a:pt x="26792" y="12828"/>
                </a:lnTo>
                <a:lnTo>
                  <a:pt x="26792" y="14107"/>
                </a:lnTo>
                <a:lnTo>
                  <a:pt x="17209" y="14107"/>
                </a:lnTo>
                <a:lnTo>
                  <a:pt x="17209" y="9877"/>
                </a:lnTo>
                <a:lnTo>
                  <a:pt x="17027" y="9877"/>
                </a:lnTo>
                <a:lnTo>
                  <a:pt x="16644" y="10243"/>
                </a:lnTo>
                <a:lnTo>
                  <a:pt x="15730" y="10243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Título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Fazer uma Pesquisa sobre as propriedades coligativas (0 a 5) e enviar no meu email: quimicopolar@gmail.com (não será aceita copia fiel da internet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Realizar um experimento em sala de aula (0 a 5) e explicar. (pode trazê-lo filmado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0" y="3315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água pura à pressão de 1 atm possui ponto de fusão de 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 e ponto de ebulição de 10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quando adicionamos um soluto não volátil à água, o soluto modifica as propriedades físicas da água. Agora a água congela abaixo de 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 e ferve acima de 10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. Estas alterações das propriedades físicas da água devido à adição do soluto são denominados d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feitos coligativ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2" descr="http://ceticismo.files.wordpress.com/2008/11/agua_pura.jpg"/>
          <p:cNvPicPr/>
          <p:nvPr/>
        </p:nvPicPr>
        <p:blipFill>
          <a:blip r:embed="rId1"/>
          <a:stretch/>
        </p:blipFill>
        <p:spPr>
          <a:xfrm>
            <a:off x="155520" y="-18618120"/>
            <a:ext cx="2190960" cy="2457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http://ceticismo.files.wordpress.com/2008/11/agua_pura.jpg"/>
          <p:cNvPicPr/>
          <p:nvPr/>
        </p:nvPicPr>
        <p:blipFill>
          <a:blip r:embed="rId2"/>
          <a:stretch/>
        </p:blipFill>
        <p:spPr>
          <a:xfrm>
            <a:off x="3000240" y="1214280"/>
            <a:ext cx="21909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O uso de aditivos, como o etilenoglicol, à água do radiador de carros evita que ela entre em ebulição, no caso de um superaquecimento do motor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5" descr="Ethylene glycol chemical structure.png"/>
          <p:cNvPicPr/>
          <p:nvPr/>
        </p:nvPicPr>
        <p:blipFill>
          <a:blip r:embed="rId2"/>
          <a:stretch/>
        </p:blipFill>
        <p:spPr>
          <a:xfrm>
            <a:off x="4572000" y="5429160"/>
            <a:ext cx="4371840" cy="1141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Ethylene-glycol-3D-vdW.png"/>
          <p:cNvPicPr/>
          <p:nvPr/>
        </p:nvPicPr>
        <p:blipFill>
          <a:blip r:embed="rId3"/>
          <a:stretch/>
        </p:blipFill>
        <p:spPr>
          <a:xfrm>
            <a:off x="5786280" y="825480"/>
            <a:ext cx="2643480" cy="1717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http://www.wolfracing.com.br/images/motocool.jpg"/>
          <p:cNvPicPr/>
          <p:nvPr/>
        </p:nvPicPr>
        <p:blipFill>
          <a:blip r:embed="rId4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4"/>
          <p:cNvSpPr/>
          <p:nvPr/>
        </p:nvSpPr>
        <p:spPr>
          <a:xfrm>
            <a:off x="-142920" y="6122160"/>
            <a:ext cx="500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Aditivo do radiador: evita o congelamento e a ebulição da água que refrigera o motor do carr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Nos países em que o inverno é rigoroso, esse mesmo aditivo tem o efeito de evitar o congelamento da água do radiador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Nesses países, joga-se SAL nas estradas e ruas com acúmulo de neve para derretê-l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Em verduras cruas com sal, as células perdem água mais rapidamente, murchando em pouco temp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285840" y="16848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Para cada propriedade física que modifica temos uma propriedade coligativa que estuda este efei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28760" y="1857240"/>
          <a:ext cx="8572320" cy="219888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EFEITO COLIG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PROPRIEDADE COLIG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iminuição da pressão de vap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on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umento do Ponto de Ebul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buli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iminuição do Ponto de Congel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ri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umento da Pressão Osmó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sm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Retângulo 7"/>
          <p:cNvSpPr/>
          <p:nvPr/>
        </p:nvSpPr>
        <p:spPr>
          <a:xfrm>
            <a:off x="500040" y="464328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70c0"/>
                </a:solidFill>
                <a:latin typeface="Trebuchet MS"/>
              </a:rPr>
              <a:t>Os efeitos coligativos dependem </a:t>
            </a:r>
            <a:r>
              <a:rPr b="1" lang="pt-BR" sz="2800" spc="-1" strike="noStrike">
                <a:solidFill>
                  <a:srgbClr val="0070c0"/>
                </a:solidFill>
                <a:latin typeface="Trebuchet MS"/>
              </a:rPr>
              <a:t>somente</a:t>
            </a:r>
            <a:r>
              <a:rPr b="0" lang="pt-BR" sz="2800" spc="-1" strike="noStrike">
                <a:solidFill>
                  <a:srgbClr val="0070c0"/>
                </a:solidFill>
                <a:latin typeface="Trebuchet MS"/>
              </a:rPr>
              <a:t> do número de partículas do soluto dissolvidas. Quanto maior for o número de partículas do soluto dissolvidas, maiores serão os efeitos coligat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Diminuição da pressão de vapor de um líquido, provocada pela dissolução de um soluto não-voláti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pressão de vapor da solução formada por um soluto (não-volátil) em solvente é menor que a do solvente puro, pois a interação entre as partículas do soluto e as moléculas do solvente diminuem as saídas destas última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8:55:09Z</dcterms:created>
  <dc:creator>Marcia</dc:creator>
  <dc:description/>
  <dc:language>en-US</dc:language>
  <cp:lastModifiedBy>Moises</cp:lastModifiedBy>
  <dcterms:modified xsi:type="dcterms:W3CDTF">2010-08-03T19:12:07Z</dcterms:modified>
  <cp:revision>63</cp:revision>
  <dc:subject/>
  <dc:title>PROPRIEDADES COLIGATIV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